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7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5.wmf" ContentType="image/x-wmf"/>
  <Override PartName="/ppt/media/image24.png" ContentType="image/png"/>
  <Override PartName="/ppt/media/image11.jpeg" ContentType="image/jpe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8771-60E1-4C05-BC96-704A204A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08EF-1F30-4F54-B6B1-003B652E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1013-A19F-47D3-9ED9-5D8F879EB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22C4-F2D6-4023-882C-34C422F82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683-CBFD-476F-A73B-74FA12315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76C5-F4BA-4FDC-BC50-51B8ACA52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7A2F-13E6-4BEA-AE70-23C6F86EA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06A8-3676-44D4-AC32-5D84FA6EC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B92B-6F52-49BD-90C2-DAC73F85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806F-9091-4960-A387-B061C7F6C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EC1F-B154-416A-971A-A68B66CD4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4D2C-25CA-4137-889D-223420C09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B809-6158-4C8F-B1E9-4BFC4A030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E024-C7BB-45D5-8AB6-F1D506C54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D253-CCDC-47D4-A9E9-572BD7D18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784-3BAF-40FB-979F-B9D22B586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6F1-028F-4A34-8E3E-60CE7BA97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712E-CA75-4C6F-B931-88C3DCBB8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6D2D-46FC-4E30-836D-194B1B48C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CF2A-7BDD-4169-B022-E1CB2BAD7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FCC-AD98-4A50-AFC4-EAC904D4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9CB8-8CC2-46DC-B47E-F23E01336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1A4C-21B2-4481-ADEF-CAA64A726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039E-99F6-4965-8EFD-C38F4491E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349C-5DFA-4C90-A33F-F73DF083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C220-808C-4A12-BDB3-29E75A572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D893-984A-49F5-A316-15C9F21A5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2F6A-DDB1-4843-B86E-8B5C3B3B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F845-AFDE-420C-9988-CAB0EEF72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64D1-F45A-4E85-99DE-89B0CE8960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179360" y="687240"/>
            <a:ext cx="45007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B25A-031A-4A5D-A1A4-AE727F56DE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179360" y="687240"/>
            <a:ext cx="449748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545A-A8DA-47D8-AE70-96516EBC4B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179360" y="687240"/>
            <a:ext cx="45007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909-B84A-4C4F-BC4E-5EDE32AF3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5B63-C78A-4602-908A-EF2384F67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FCAA-BD8E-4921-BC22-BFE221E38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865E-AF15-4AE6-828F-999657358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1AAF-C46B-44E9-BD24-6C65C3C09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6663-E87F-47E2-B127-F275F96CA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7749-9955-44D3-9B7D-73A56AB3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4C20-CEC5-4F30-8BA8-CF38BA558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3AAF-4DD6-4811-A648-7C4B8E982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49CE-7F52-42DF-9035-710D7F59F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F7B-CA45-46EE-B6AF-90C2E3290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495-4FD5-4FD0-BBE9-6B969A72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9EA-3F1C-4311-88F3-38EFF9CDD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6231-9F2D-4304-9A45-5784895D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1267-43D3-404D-9EE5-6A125717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1521-83E2-4D46-BDDC-07C505571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C12-8A92-4FC7-89B2-A6AD30EE8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5E5-DD4B-4A88-A99C-646CF985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260-6ABC-4D11-8169-599DDFE9E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F2D0-39F4-45D2-95A9-6425BB16B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3FEC-5448-4305-A3A0-2ADBB37A5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9C6-018E-4034-9528-3061AFDBD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2396-96F3-4709-910B-B3589DD68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A32D-A8CA-4FFE-8E72-95D7F2437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EC1C-BF7E-42B9-966D-BEC40A518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FDF-A059-495C-A27E-038CD33D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9EC8-FC96-4D63-AAE2-67B0C310F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4A47-0810-42B8-9FD7-DCFFA796F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58D6-D877-47BC-A4E8-59794E5A6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14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-22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14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-22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8214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8214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-22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14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14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1440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0"/>
            <a:ext cx="8380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1440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0"/>
            <a:ext cx="8380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speech.sri.com/projects/sril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googleresearch.blogspot.com/2006/08/all-our-n-gram-are-belong-to-you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tural Language Process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47920" y="3276360"/>
            <a:ext cx="71625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880920" y="5715000"/>
            <a:ext cx="77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P notice: some slides from: Dan Jurafsky, Jim Martin, Sandiway Fong, Dan Kl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nfortunatel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6984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a lot of possible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ill never be able to get enough data to compute the statistics for those long prefix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lizard|the,other,day,I,was,walking,along,and,saw,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the|its water is so transparent tha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arkov Assump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2666880"/>
            <a:ext cx="7772400" cy="34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the simplifying assum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lizard|the,other,day,I,was,walking,along,and,saw,a)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= P(lizard|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may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lizard|the,other,day,I,was,walking,along,and,saw,a)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= P(lizard|saw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7469280" y="838080"/>
            <a:ext cx="16747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00a8"/>
                </a:solidFill>
                <a:latin typeface="Tahoma"/>
              </a:rPr>
              <a:t>So for each component in the product, replace with the approximation (assuming a prefix of </a:t>
            </a:r>
            <a:r>
              <a:rPr b="0" i="1" lang="en-US" sz="2400" spc="-1" strike="noStrike">
                <a:solidFill>
                  <a:srgbClr val="5400a8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5400a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00a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00a8"/>
                </a:solidFill>
                <a:latin typeface="Tahoma"/>
              </a:rPr>
              <a:t>Bigra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1295280" y="3048120"/>
                <a:ext cx="6140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n</m:t>
                    </m:r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»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n</m:t>
                    </m:r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arkov Assump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1447920" y="4724280"/>
                <a:ext cx="5825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»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-gram model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xtend to trigrams, 4-­grams, 5-­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 this is an insuﬃcient model of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language has long-­distance dependenc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er which I had just put into the machine room on the ﬁfth ﬂoor crashed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can often get away with N-­gram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stimating bigram probabilit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ximum Likelihood Estim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523880" y="2514600"/>
                <a:ext cx="617220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916280" y="4343400"/>
                <a:ext cx="523368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s&gt; I am Sam &lt;/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s&gt; Sam I am &lt;/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s&gt; I do not like green eggs and ham &lt;/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ximum Likelihood Est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cause it is the one which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Training set|Mod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sam.tiff"/>
          <p:cNvPicPr/>
          <p:nvPr/>
        </p:nvPicPr>
        <p:blipFill>
          <a:blip r:embed="rId1"/>
          <a:stretch/>
        </p:blipFill>
        <p:spPr>
          <a:xfrm>
            <a:off x="0" y="3044880"/>
            <a:ext cx="9144000" cy="993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sam2.tiff"/>
          <p:cNvPicPr/>
          <p:nvPr/>
        </p:nvPicPr>
        <p:blipFill>
          <a:blip r:embed="rId2"/>
          <a:stretch/>
        </p:blipFill>
        <p:spPr>
          <a:xfrm>
            <a:off x="1905120" y="4102200"/>
            <a:ext cx="46101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aximum Likelihood Estimat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066320"/>
            <a:ext cx="815328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ximum Likelihood Est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some parameter of a mode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a training se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estimate t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imizes the likelihood of the training se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n the mode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se the word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nes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ccurs 400 times in a corpus of a million words (e.g. the Brown corp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probability that a random word from some other text will be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nes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E estimate is 400/1000000 = .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may be a bad estimate for some other corp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t i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makes 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st lik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nes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occur 400 times in a million word corp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31"/>
          <p:cNvSpPr/>
          <p:nvPr/>
        </p:nvSpPr>
        <p:spPr>
          <a:xfrm>
            <a:off x="4343400" y="1752480"/>
            <a:ext cx="4691160" cy="4848840"/>
          </a:xfrm>
          <a:prstGeom prst="rect">
            <a:avLst/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maximum likelihood method (discrete distributio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the probability of each observation by using the mode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the probability of all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value parameter(s) that maximize this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689040" y="0"/>
            <a:ext cx="84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aximum Likelih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693720" y="99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want to estimate the probability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that individuals are infected with a certain kind of para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4869000" y="5029200"/>
                <a:ext cx="3360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ata</m:t>
                    </m:r>
                    <m:r>
                      <m:t xml:space="preserve">|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81" name=""/>
          <p:cNvGraphicFramePr/>
          <p:nvPr/>
        </p:nvGraphicFramePr>
        <p:xfrm>
          <a:off x="689040" y="2065320"/>
          <a:ext cx="3497040" cy="4354560"/>
        </p:xfrm>
        <a:graphic>
          <a:graphicData uri="http://schemas.openxmlformats.org/drawingml/2006/table">
            <a:tbl>
              <a:tblPr/>
              <a:tblGrid>
                <a:gridCol w="601560"/>
                <a:gridCol w="1066680"/>
                <a:gridCol w="1828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ob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40"/>
          <p:cNvSpPr/>
          <p:nvPr/>
        </p:nvSpPr>
        <p:spPr>
          <a:xfrm>
            <a:off x="4417920" y="1943280"/>
            <a:ext cx="4461120" cy="480528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kelihood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Find the value parameter(s) that maximize this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693720" y="0"/>
            <a:ext cx="84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aximum likelih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693720" y="99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want to estimate the probability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that individuals are infected with a certain kind of para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4470480" y="2514600"/>
                <a:ext cx="43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ata</m:t>
                    </m:r>
                    <m:r>
                      <m:t xml:space="preserve">|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671640" cy="3371760"/>
          </a:xfrm>
          <a:prstGeom prst="rect">
            <a:avLst/>
          </a:prstGeom>
          <a:ln w="0">
            <a:noFill/>
          </a:ln>
        </p:spPr>
      </p:pic>
      <p:cxnSp>
        <p:nvCxnSpPr>
          <p:cNvPr id="187" name="Straight Arrow Connector 48"/>
          <p:cNvCxnSpPr/>
          <p:nvPr/>
        </p:nvCxnSpPr>
        <p:spPr>
          <a:xfrm flipH="1">
            <a:off x="7019640" y="4114800"/>
            <a:ext cx="2160" cy="194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188" name=""/>
          <p:cNvGraphicFramePr/>
          <p:nvPr/>
        </p:nvGraphicFramePr>
        <p:xfrm>
          <a:off x="770040" y="2065320"/>
          <a:ext cx="3497040" cy="4354560"/>
        </p:xfrm>
        <a:graphic>
          <a:graphicData uri="http://schemas.openxmlformats.org/drawingml/2006/table">
            <a:tbl>
              <a:tblPr/>
              <a:tblGrid>
                <a:gridCol w="601560"/>
                <a:gridCol w="1066680"/>
                <a:gridCol w="1828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ob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uting the M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derivative to 0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nimu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nimu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0.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ximu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514600" y="1828800"/>
                <a:ext cx="411480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Modeling (N-gra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gram In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in R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annon Visualization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oothing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place (Add-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-pr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More examples: Berkeley Restaurant Projec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alibri"/>
              </a:rPr>
              <a:t>can you tell me about any good cantonese restaurants close 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alibri"/>
              </a:rPr>
              <a:t>mid priced thai food is what i</a:t>
            </a:r>
            <a:r>
              <a:rPr b="0" lang="ja-JP" sz="2800" spc="-1" strike="noStrike">
                <a:solidFill>
                  <a:srgbClr val="330099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30099"/>
                </a:solidFill>
                <a:latin typeface="Calibri"/>
              </a:rPr>
              <a:t>m looking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alibri"/>
              </a:rPr>
              <a:t>tell me about chez panis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alibri"/>
              </a:rPr>
              <a:t>can you give me a listing of the kinds of food that are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alibri"/>
              </a:rPr>
              <a:t>i</a:t>
            </a:r>
            <a:r>
              <a:rPr b="0" lang="ja-JP" sz="2800" spc="-1" strike="noStrike">
                <a:solidFill>
                  <a:srgbClr val="330099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30099"/>
                </a:solidFill>
                <a:latin typeface="Calibri"/>
              </a:rPr>
              <a:t>m looking for a good place to eat break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alibri"/>
              </a:rPr>
              <a:t>when is caffe venezia open during the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aw bigram cou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 of 9222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berp1"/>
          <p:cNvPicPr/>
          <p:nvPr/>
        </p:nvPicPr>
        <p:blipFill>
          <a:blip r:embed="rId1"/>
          <a:stretch/>
        </p:blipFill>
        <p:spPr>
          <a:xfrm>
            <a:off x="76320" y="2362320"/>
            <a:ext cx="90676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aw bigram probabilit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ize by unigrams (divid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berp2"/>
          <p:cNvPicPr/>
          <p:nvPr/>
        </p:nvPicPr>
        <p:blipFill>
          <a:blip r:embed="rId1"/>
          <a:stretch/>
        </p:blipFill>
        <p:spPr>
          <a:xfrm>
            <a:off x="762120" y="3581280"/>
            <a:ext cx="8305560" cy="294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berp3"/>
          <p:cNvPicPr/>
          <p:nvPr/>
        </p:nvPicPr>
        <p:blipFill>
          <a:blip r:embed="rId2"/>
          <a:stretch/>
        </p:blipFill>
        <p:spPr>
          <a:xfrm>
            <a:off x="1066680" y="2255760"/>
            <a:ext cx="77853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4280" y="-2289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Bigram estimates of sentence probabilitie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&lt;s&gt; I want english food &lt;/s&gt;)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i|&lt;s&gt;)  x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want|I)  x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english|want) x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food|english)  x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&lt;/s&gt;|foo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.00003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at kinds of knowledge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glish|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0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inese|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006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|w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6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at |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2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od |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nt | sp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| &lt;s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2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actical Issu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in log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der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is faster than multiply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1752480" y="66294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1813"/>
                </a:solidFill>
                <a:latin typeface="Arial"/>
                <a:ea typeface="Arial"/>
              </a:rPr>
              <a:t>Jim Martin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Shannon’s Game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What if we turn these models around and use them to </a:t>
            </a:r>
            <a:r>
              <a:rPr b="0" i="1" lang="en-US" sz="2800" spc="-1" strike="noStrike">
                <a:solidFill>
                  <a:srgbClr val="ff0033"/>
                </a:solidFill>
                <a:latin typeface="Arial"/>
              </a:rPr>
              <a:t>generate</a:t>
            </a:r>
            <a:r>
              <a:rPr b="0" i="1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random sentences that are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like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e sentences from which the model was deriv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hannon"/>
          <p:cNvPicPr/>
          <p:nvPr/>
        </p:nvPicPr>
        <p:blipFill>
          <a:blip r:embed="rId1"/>
          <a:stretch/>
        </p:blipFill>
        <p:spPr>
          <a:xfrm>
            <a:off x="6248520" y="4419720"/>
            <a:ext cx="11271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Shannon Visualization Metho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e random sente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 random bigram &lt;s&gt;, w according to its prob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choose a random bigram (w, x) according to its prob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so on until we choose &lt;/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string the words toge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&lt;s&gt;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000" spc="-1" strike="noStrike">
                <a:solidFill>
                  <a:srgbClr val="a50021"/>
                </a:solidFill>
                <a:latin typeface="Calibri"/>
              </a:rPr>
              <a:t>wa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alibri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alibri"/>
              </a:rPr>
              <a:t>e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ine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000" spc="-1" strike="noStrike">
                <a:solidFill>
                  <a:srgbClr val="a50021"/>
                </a:solidFill>
                <a:latin typeface="Calibri"/>
              </a:rPr>
              <a:t>Chine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alibri"/>
              </a:rPr>
              <a:t>fo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lt;/s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pproximating Shakespear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fig 4.3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Shakespeare as corpu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=884,647 tokens, V=29,06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kespeare produced 300,000 bigram types out of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844 million possible bigrams:  so, 99.96% of the possible bigrams were never seen (have zero entries in the tabl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drigram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's coming out looks like Shakespeare because i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akespe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babilistic Language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69848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assign a probability to a sen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Transl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high winds tonite) &gt; P(large winds toni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ll Cor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ﬃce is about ﬁfteen minuets from my house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bout ﬁfteen minutes fro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(about ﬁfteen minuets fro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I saw a van) &gt;&gt;  P(eyes awe of a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, question-­answering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Wall Street Journal is not Shakespeare (no offense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fig 4.4.jpg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esson 1: the perils of overfit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-grams only work well for word prediction if the test corpus looks like the training cor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al life, it often does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train robust models, adapt to test set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in and Test Corpor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nguage model must be trained on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arge corp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ext to estimate good parameter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can be evaluated based on its ability to predict a high probability for a disjoint (held-out) test corpus (testing on the training corpus would give an optimistically biased estimate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lly, the training (and test) corpus should be representative of the actual application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need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a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general model to a small amount of new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-do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ata by adding highly weighted small corpus to original training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mooth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Smoothing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54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a combinatorial number of possible word sequences, many rare (but not impossible) combinations never occur in training, so MLE incorrectly assigns zero to many parameters (ak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rs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ew combination occurs during testing, it is given a probability of zero a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tire sequence gets a probability of 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finite perplexity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parameter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moot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k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reassign some probability mass to unseen ev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probability mass to unseen events requires removing it from seen on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 order to maintain a joint distribution that sums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moothing is like Robin Hoo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eal from the rich and give to the poor (in probability mass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193240" cy="5029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1471680" y="654516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Dan Kl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place smooth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add-one smoo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add one to all the count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i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E estima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place estima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nstructed cou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addone1"/>
          <p:cNvPicPr/>
          <p:nvPr/>
        </p:nvPicPr>
        <p:blipFill>
          <a:blip r:embed="rId1"/>
          <a:stretch/>
        </p:blipFill>
        <p:spPr>
          <a:xfrm>
            <a:off x="5410080" y="28195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addone3"/>
          <p:cNvPicPr/>
          <p:nvPr/>
        </p:nvPicPr>
        <p:blipFill>
          <a:blip r:embed="rId2"/>
          <a:stretch/>
        </p:blipFill>
        <p:spPr>
          <a:xfrm>
            <a:off x="4863960" y="4876920"/>
            <a:ext cx="3670560" cy="1185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laplace"/>
          <p:cNvPicPr/>
          <p:nvPr/>
        </p:nvPicPr>
        <p:blipFill>
          <a:blip r:embed="rId3"/>
          <a:stretch/>
        </p:blipFill>
        <p:spPr>
          <a:xfrm>
            <a:off x="4622760" y="3809880"/>
            <a:ext cx="353052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place smoothed bigram cou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38" name="Picture 4" descr="addone4"/>
          <p:cNvPicPr/>
          <p:nvPr/>
        </p:nvPicPr>
        <p:blipFill>
          <a:blip r:embed="rId1"/>
          <a:stretch/>
        </p:blipFill>
        <p:spPr>
          <a:xfrm>
            <a:off x="0" y="2133720"/>
            <a:ext cx="9245520" cy="3289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1523880" y="1305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Berkeley Restaurant Cor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place-smoothed bigra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41" name="Picture 4" descr="addone6"/>
          <p:cNvPicPr/>
          <p:nvPr/>
        </p:nvPicPr>
        <p:blipFill>
          <a:blip r:embed="rId1"/>
          <a:stretch/>
        </p:blipFill>
        <p:spPr>
          <a:xfrm>
            <a:off x="1295280" y="1905120"/>
            <a:ext cx="5702400" cy="1218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laplace2"/>
          <p:cNvPicPr/>
          <p:nvPr/>
        </p:nvPicPr>
        <p:blipFill>
          <a:blip r:embed="rId2"/>
          <a:stretch/>
        </p:blipFill>
        <p:spPr>
          <a:xfrm>
            <a:off x="0" y="3703680"/>
            <a:ext cx="9144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constituted cou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44" name="Picture 5" descr="laplace3"/>
          <p:cNvPicPr/>
          <p:nvPr/>
        </p:nvPicPr>
        <p:blipFill>
          <a:blip r:embed="rId1"/>
          <a:stretch/>
        </p:blipFill>
        <p:spPr>
          <a:xfrm>
            <a:off x="0" y="3502080"/>
            <a:ext cx="9144000" cy="3051000"/>
          </a:xfrm>
          <a:prstGeom prst="rect">
            <a:avLst/>
          </a:prstGeom>
          <a:ln w="0">
            <a:noFill/>
          </a:ln>
        </p:spPr>
      </p:pic>
      <p:pic>
        <p:nvPicPr>
          <p:cNvPr id="245" name="TextBox 1" descr=""/>
          <p:cNvPicPr/>
          <p:nvPr/>
        </p:nvPicPr>
        <p:blipFill>
          <a:blip r:embed="rId2"/>
          <a:stretch/>
        </p:blipFill>
        <p:spPr>
          <a:xfrm>
            <a:off x="1170000" y="1994040"/>
            <a:ext cx="67784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y Language Model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n English speech recognition system, which answer is bett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recognitio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cognitio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k podcast hist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スピーチ が 救出 スト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models tell us the answer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6668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 big change to cou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nt from 608 to 238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|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.66 to .26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ou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= c*/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nese food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.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10x reductio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 in general, Laplace is a blunt instru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Laplace smoothing not used for N-grams, as we have much better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pite its flaws Laplace (add-k) is however still used to smooth other probabilistic models in NLP, especi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ilot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domains where the number of zeros is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so hu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d-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a small fraction instead of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= 0.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Even better: Bayesian unigram prior smoothing for bigrams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Likelihood Esti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lace Smo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yesian Prior Smo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752480" y="2235240"/>
                <a:ext cx="3287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1603440" y="3911760"/>
                <a:ext cx="4645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oc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1652760" y="5664240"/>
                <a:ext cx="4976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ior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Lesson 2: zeros or not?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00200"/>
            <a:ext cx="763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ip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La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mall number of events occur with high 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large number of events occur with low 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can quickly collect statistics on the high frequency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might have to wait an arbitrarily long time to get valid statistics on low frequency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r estimates are sparse! no counts at all for the vast bulk of things we want to estimat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f the zeroes in the table are really zeros  But others are simply low frequency events you haven't seen yet.  After all, ANYTHING CAN HAPPE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addres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e the likelihood of unseen N-gram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753480" y="65959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B. Dorr and J. Hirsch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7962840" y="1219320"/>
            <a:ext cx="1181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4897440" y="1547640"/>
            <a:ext cx="3865680" cy="4140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2"/>
          <p:cNvSpPr/>
          <p:nvPr/>
        </p:nvSpPr>
        <p:spPr>
          <a:xfrm>
            <a:off x="582480" y="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Zipf's law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529080" cy="44690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4800600" y="5591160"/>
            <a:ext cx="3809880" cy="119124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/r         (f proportional to 1/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constant k such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3"/>
          <a:stretch/>
        </p:blipFill>
        <p:spPr>
          <a:xfrm>
            <a:off x="757080" y="1619280"/>
            <a:ext cx="3419640" cy="4140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4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69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w Cen MT Condensed"/>
              </a:rPr>
              <a:t>Zipf's Law for the Brown Corpus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079640" y="1600200"/>
            <a:ext cx="67039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5200" y="-360"/>
            <a:ext cx="8488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Zipf law: interpretati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cipl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ast eff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both the speaker and the hearer in communication try to minimize effo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akers tend to use a small vocabulary of common (shorter) 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ers prefer a large vocabulary of rarer less ambiguous 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ipf's law is the result of this comprom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laws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meaning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ord obeys the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 relationship between frequency and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8686800" y="5257800"/>
            <a:ext cx="228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  <p:sndAc>
      <p:stSnd>
        <p:snd r:embed="rId1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actical Issu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 everything in log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under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lso adding is faster than multiply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lg2"/>
          <p:cNvPicPr/>
          <p:nvPr/>
        </p:nvPicPr>
        <p:blipFill>
          <a:blip r:embed="rId1"/>
          <a:stretch/>
        </p:blipFill>
        <p:spPr>
          <a:xfrm>
            <a:off x="349200" y="3476520"/>
            <a:ext cx="87948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 Modeling Toolki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440" y="169848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Calibri"/>
                <a:hlinkClick r:id="rId1"/>
              </a:rPr>
              <a:t>http://www.speech.sri.com/projects/srilm/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RSTL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n L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oogle N-Gram Releas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75" name="Picture 3" descr="google-ngrams"/>
          <p:cNvPicPr/>
          <p:nvPr/>
        </p:nvPicPr>
        <p:blipFill>
          <a:blip r:embed="rId1"/>
          <a:stretch/>
        </p:blipFill>
        <p:spPr>
          <a:xfrm>
            <a:off x="838080" y="1143000"/>
            <a:ext cx="8412120" cy="3200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google2-ngrams"/>
          <p:cNvPicPr/>
          <p:nvPr/>
        </p:nvPicPr>
        <p:blipFill>
          <a:blip r:embed="rId2"/>
          <a:stretch/>
        </p:blipFill>
        <p:spPr>
          <a:xfrm>
            <a:off x="958680" y="4495680"/>
            <a:ext cx="8185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 Model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622520"/>
            <a:ext cx="7772400" cy="50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ant to compu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he probability of a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ly we want to compu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he probability of a word given some previous 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that comput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called the </a:t>
            </a:r>
            <a:r>
              <a:rPr b="0" lang="en-US" sz="2400" spc="-1" strike="noStrike">
                <a:solidFill>
                  <a:srgbClr val="a50021"/>
                </a:solidFill>
                <a:latin typeface="Calibri"/>
              </a:rPr>
              <a:t>language mod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etter term for this would be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rammar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model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LM is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oogle Book N-gra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grams.googlelabs.com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oogle N-Gram Releas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coming 9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cubator 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dependent 7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dex 2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dication 7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dicator 1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dicators 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dispensable 1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dispensible 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rve as the individual 23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733680" y="5486400"/>
            <a:ext cx="78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googleresearch.blogspot.com/2006/08/all-our-n-gram-are-belong-to-you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aluation and Perplex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 parameters of our model o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ining s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evaluate how well our model work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at the models performance on some new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what happens in the real world; we want to know how our model performs on data we have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se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st s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A dataset which is different than our training 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we nee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aluation metr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ell us how well our model is doing on the test s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such metric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plex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aluating N-gram model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st evaluation for an N-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model A in a task (language identification, speech recognizer, machine translation syst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the task, get an accuracy for A (how many langs identified correctly, or Word Error Rate, or et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model B in task, get accuracy for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accuracy for A and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insic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 Identification tas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 N-gram model for each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probability of a given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ang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an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an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language with highest 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ng = 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Difficulty of extrinsic (in-vivo) evaluation of  N-gram model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rinsic evalu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really time-consum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take days to run an experi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a temporary solution, in order to run experi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valuate N-grams we often use an </a:t>
            </a:r>
            <a:r>
              <a:rPr b="1" lang="en-US" sz="2600" spc="-1" strike="noStrike">
                <a:solidFill>
                  <a:srgbClr val="a50021"/>
                </a:solidFill>
                <a:latin typeface="Calibri"/>
              </a:rPr>
              <a:t>intrins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valuation, an approximation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erplex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perplexity is a poor approximation unless the test data look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ju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ike the training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i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enerally only useful in pilot experiments (generally is not sufficient to publish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plex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8381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uition behind perplexity as a measure is the notion of surpri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urprised is the language model when it sees the test se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surprise is a measure of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e, I didn’t see that coming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re surprised the model is, the lower the probability it assigned to the test 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gher the probability, the less surprised it w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plex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of how well a model “fits” the test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the probability that the model assigns to the test corp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izes for the number of words in the test corpus and takes the inver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the weighted average branching factor in predicting the next word (lower is better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2535120" y="4110120"/>
                <a:ext cx="3275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plex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1760" y="167616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plexit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in ru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igra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pp1"/>
          <p:cNvPicPr/>
          <p:nvPr/>
        </p:nvPicPr>
        <p:blipFill>
          <a:blip r:embed="rId1"/>
          <a:stretch/>
        </p:blipFill>
        <p:spPr>
          <a:xfrm>
            <a:off x="5492880" y="1676520"/>
            <a:ext cx="3041640" cy="129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pp2"/>
          <p:cNvPicPr/>
          <p:nvPr/>
        </p:nvPicPr>
        <p:blipFill>
          <a:blip r:embed="rId2"/>
          <a:stretch/>
        </p:blipFill>
        <p:spPr>
          <a:xfrm>
            <a:off x="5486400" y="3200400"/>
            <a:ext cx="3352680" cy="944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pp3"/>
          <p:cNvPicPr/>
          <p:nvPr/>
        </p:nvPicPr>
        <p:blipFill>
          <a:blip r:embed="rId3"/>
          <a:stretch/>
        </p:blipFill>
        <p:spPr>
          <a:xfrm>
            <a:off x="5524560" y="4191120"/>
            <a:ext cx="3009960" cy="9712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685800" y="54864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00a8"/>
                </a:solidFill>
                <a:latin typeface="Calibri"/>
              </a:rPr>
              <a:t>Minimizing perplexity is the same as maximizing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best language model is one that best predicts an unseen tes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ut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compute this joint probabilit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ing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w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zar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uition: le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rely on the Chain Rule of 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plexity as branching facto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04" name="Picture 4" descr="perp"/>
          <p:cNvPicPr/>
          <p:nvPr/>
        </p:nvPicPr>
        <p:blipFill>
          <a:blip r:embed="rId1"/>
          <a:stretch/>
        </p:blipFill>
        <p:spPr>
          <a:xfrm>
            <a:off x="1828800" y="2882880"/>
            <a:ext cx="5118120" cy="3670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685800" y="169812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hard is the task of recognizing digit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,1,2,3,4,5,6,7,8,9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plexity: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wer perplexity = better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trained on 38 million words from the Wall Street Journal (WSJ) using a 19,979 word vocabular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on a disjoint set of 1.5 million WSJ wor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19320" y="4648320"/>
          <a:ext cx="6095880" cy="8287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524240"/>
                <a:gridCol w="152388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gram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lex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Unknown Word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handle words in the test corpus that did not occur in the training data, i.e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ut of vocabul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OV) word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 a model that includes an explicit symbol for an unknown word (&lt;UNK&gt;)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 vocabulary in advance and replace other words in the training corpus with &lt;UNK&gt;, 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 the first occurrence of each word in the training data with &lt;UNK&gt;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Unknown Words handling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698480"/>
            <a:ext cx="81532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of &lt;UNK&gt; probab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fixed lexicon L of size 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training word not in L changed to  &lt;UNK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we train its probabilities like a normal 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decoding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ext input: use &lt;UNK&gt; probabilities for any word not in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mooth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Advanced LM stuff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best smoothing algorith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eser-Ney smooth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tuff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terpola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ackoff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ariable-length n-gram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ss-based n-gram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usterin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and-built class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che LM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pic-based LM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ntence mixture model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kipping LM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ser-based LM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ord Embedding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224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ckoff and Interpol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we are estimat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gra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|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info fro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gra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|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ev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gra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combine the trigram/bigram/unigram inf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Backoff versus interpolati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of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use trigram if you have it, otherwise bigram, otherwise uni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o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ix all th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Backoff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9848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use lower-order model wh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higher-order model is un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ively back-off to weaker models until data is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5"/>
              <p:cNvSpPr txBox="1"/>
              <p:nvPr/>
            </p:nvSpPr>
            <p:spPr>
              <a:xfrm>
                <a:off x="1279440" y="3962520"/>
                <a:ext cx="6642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atz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∗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α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atz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therwi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4" name="Text Box 6"/>
          <p:cNvSpPr/>
          <p:nvPr/>
        </p:nvSpPr>
        <p:spPr>
          <a:xfrm>
            <a:off x="1104840" y="4987800"/>
            <a:ext cx="71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* is a discounted probability estimate to reserve mass for unseen event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re back-off weights (see book for detail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erpol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interpo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mbdas conditional on contex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interp1"/>
          <p:cNvPicPr/>
          <p:nvPr/>
        </p:nvPicPr>
        <p:blipFill>
          <a:blip r:embed="rId1"/>
          <a:stretch/>
        </p:blipFill>
        <p:spPr>
          <a:xfrm>
            <a:off x="1371600" y="2217600"/>
            <a:ext cx="4748040" cy="1516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interp2"/>
          <p:cNvPicPr/>
          <p:nvPr/>
        </p:nvPicPr>
        <p:blipFill>
          <a:blip r:embed="rId2"/>
          <a:stretch/>
        </p:blipFill>
        <p:spPr>
          <a:xfrm>
            <a:off x="1219320" y="4343400"/>
            <a:ext cx="6180120" cy="1763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interp2"/>
          <p:cNvPicPr/>
          <p:nvPr/>
        </p:nvPicPr>
        <p:blipFill>
          <a:blip r:embed="rId3"/>
          <a:stretch/>
        </p:blipFill>
        <p:spPr>
          <a:xfrm>
            <a:off x="6477120" y="2438280"/>
            <a:ext cx="952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Chain Ru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e definition of conditional prob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gener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3352680" y="2149560"/>
                <a:ext cx="28782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3141720" y="3429000"/>
                <a:ext cx="3852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w to set the lambdas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7464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eld-ou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rpu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oose lambdas which maximize the probability of 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.e. fix the N-gram probabil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search for lambda values that,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plugged into previous equation,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 largest probability for held-out s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use EM (Expectation Maximization) to do this searc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 Single Corner Rectangle 3"/>
          <p:cNvSpPr/>
          <p:nvPr/>
        </p:nvSpPr>
        <p:spPr>
          <a:xfrm>
            <a:off x="1131840" y="1752480"/>
            <a:ext cx="3429000" cy="685800"/>
          </a:xfrm>
          <a:prstGeom prst="pie">
            <a:avLst/>
          </a:prstGeom>
          <a:solidFill>
            <a:srgbClr val="adc2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ound Single Corner Rectangle 4"/>
          <p:cNvSpPr/>
          <p:nvPr/>
        </p:nvSpPr>
        <p:spPr>
          <a:xfrm>
            <a:off x="4789440" y="1752480"/>
            <a:ext cx="2286000" cy="685800"/>
          </a:xfrm>
          <a:prstGeom prst="pie">
            <a:avLst/>
          </a:prstGeom>
          <a:solidFill>
            <a:srgbClr val="434343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d-Ou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ound Single Corner Rectangle 5"/>
          <p:cNvSpPr/>
          <p:nvPr/>
        </p:nvSpPr>
        <p:spPr>
          <a:xfrm>
            <a:off x="7543800" y="1752480"/>
            <a:ext cx="990720" cy="685800"/>
          </a:xfrm>
          <a:prstGeom prst="pie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uition of backoff+discoun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probability to assign to all the zero trigram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Good-Turing or other discoun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divide that probability mass among different contex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N-1 gram estim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do for the unigram words not seen in train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 Of Vocabul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OOV 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74280" y="-228960"/>
            <a:ext cx="8164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Problem for N-Grams: Long Distance Dependencie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local context does not provide enough predictive clues, due to the presenc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ng-distance dependenc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ctic depend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xt to the large oak tree near the grocery store on the corner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ll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xt to the large oak tree near the grocery store on the corner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ll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antic depend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i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xt to the large oak tree near the grocery store on the corner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fl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apidly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xt to the large oak tree near the grocery store on the corner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talk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apidly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plex models of language are needed to handle such dependenc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RPA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40" name="Picture 4" descr="bo1"/>
          <p:cNvPicPr/>
          <p:nvPr/>
        </p:nvPicPr>
        <p:blipFill>
          <a:blip r:embed="rId1"/>
          <a:stretch/>
        </p:blipFill>
        <p:spPr>
          <a:xfrm>
            <a:off x="762120" y="2362320"/>
            <a:ext cx="788652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bo2"/>
          <p:cNvPicPr/>
          <p:nvPr/>
        </p:nvPicPr>
        <p:blipFill>
          <a:blip r:embed="rId1"/>
          <a:stretch/>
        </p:blipFill>
        <p:spPr>
          <a:xfrm>
            <a:off x="1523880" y="685800"/>
            <a:ext cx="5759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 Model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models assign a probability that a sentence is a legal string in a langu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useful as a component of many NLP systems, such as ASR, OCR, and M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N-gram models are easy to train on unsupervised corpora and can provide useful estimates of sentence likelihoo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E gives inaccurate parameters for models trained on sparse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othing techniques adjust parameter estimates to account for unseen (but not impossible) ev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dd6"/>
                </a:solidFill>
                <a:latin typeface="Arial"/>
              </a:rPr>
              <a:t>Write two pr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in-unigram: Creates a unigram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-unigram: Reads a unigram model and calculates entropy and coverage for the test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dd6"/>
                </a:solidFill>
                <a:latin typeface="Arial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m test/01-train-input.txt test/01-test-input.t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dd6"/>
                </a:solidFill>
                <a:latin typeface="Arial"/>
              </a:rPr>
              <a:t>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model on data/wiki-en-train.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001dd6"/>
                </a:solidFill>
                <a:latin typeface="Arial"/>
              </a:rPr>
              <a:t>entr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1dd6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data/wiki-entest.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dd6"/>
                </a:solidFill>
                <a:latin typeface="Arial"/>
              </a:rPr>
              <a:t>Re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r scores next wee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seudo code: train-unigra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p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otal_cou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raining_fi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o an array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en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&lt;/s&gt;” to the en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n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otal_cou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del_fi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wri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d, coun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babil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n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/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otal_cou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bability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del_fi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seudo-code: test-unigra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53468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09120" y="2174760"/>
            <a:ext cx="350532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eate a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ap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prob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lin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odel_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plit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lin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to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probabiliti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est and pr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038480" y="2174400"/>
            <a:ext cx="5029200" cy="43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for each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line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in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test_f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plit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line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to an array of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wo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append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&lt;/s&gt;” to the end of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wo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for each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w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in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wo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add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 to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et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 = </a:t>
            </a:r>
            <a:r>
              <a:rPr b="0" lang="el-GR" sz="2200" spc="-1" strike="noStrike">
                <a:solidFill>
                  <a:srgbClr val="000000"/>
                </a:solidFill>
                <a:latin typeface="Tw Cen MT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unk / V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probabilities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] ex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et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 += </a:t>
            </a:r>
            <a:r>
              <a:rPr b="0" lang="el-GR" sz="2200" spc="-1" strike="noStrike">
                <a:solidFill>
                  <a:srgbClr val="000000"/>
                </a:solidFill>
                <a:latin typeface="Tw Cen MT"/>
              </a:rPr>
              <a:t>λ1 *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babilities[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el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add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 to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u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add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log2 P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o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print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entropy =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”+H/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print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coverage = ” + (W-unk)/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294920"/>
            <a:ext cx="7772400" cy="546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Modeling (N-gra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-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in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hannon Visualization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othing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place (Add-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-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-pri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he Chain Rule applied to joint probability of words in sentence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ig red dog was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the) • P(big|the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•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red|the big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•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dog|the big red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•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404040"/>
                </a:solidFill>
                <a:latin typeface="Times New Roman"/>
              </a:rPr>
              <a:t>was|the big red dog</a:t>
            </a:r>
            <a:r>
              <a:rPr b="0" lang="en-US" sz="3200" spc="-1" strike="noStrike">
                <a:solidFill>
                  <a:srgbClr val="40404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hain2.tiff"/>
          <p:cNvPicPr/>
          <p:nvPr/>
        </p:nvPicPr>
        <p:blipFill>
          <a:blip r:embed="rId1"/>
          <a:stretch/>
        </p:blipFill>
        <p:spPr>
          <a:xfrm>
            <a:off x="838080" y="1981080"/>
            <a:ext cx="7302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464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vious estimat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295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estimat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| its water is so transparent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| its water is so transparent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s water is so transparent that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s water is so transparent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22:06:14Z</dcterms:created>
  <dc:creator>Dan Jurafsky</dc:creator>
  <dc:description/>
  <dc:language>en-US</dc:language>
  <cp:lastModifiedBy>Giuseppe Attardi</cp:lastModifiedBy>
  <cp:lastPrinted>2009-01-13T00:24:00Z</cp:lastPrinted>
  <dcterms:modified xsi:type="dcterms:W3CDTF">2016-09-30T13:26:32Z</dcterms:modified>
  <cp:revision>226</cp:revision>
  <dc:subject/>
  <dc:title>LSA.303 Introduction to Computational Linguistics</dc:title>
</cp:coreProperties>
</file>